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1E2F-C0B0-4A76-93A0-8ACB6E6D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73E5-4FAB-4492-AD9C-B0B1FF7B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8E4-D363-4223-A06F-E4F0169C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DAEF-3C12-4690-8C20-284A5DE1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3CA8-183F-4641-931B-58284B577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0764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17800"/>
            <a:ext cx="264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2785-3492-4B71-8FE1-73D11A5B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2F70-680E-44C4-A948-231E6DB8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7EC-288C-4D00-8D79-E6A77698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318960"/>
            <a:ext cx="822960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1E2C-0782-458F-8B09-2ED201CF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D412-F736-4AB9-A3C7-9F4EF354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8178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01E9-892C-4FFF-81C5-3CE3200A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076400"/>
            <a:ext cx="40158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17800"/>
            <a:ext cx="8229600" cy="25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60E2-447F-441D-BFC2-FE4197D7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189000"/>
          <a:ext cx="9144000" cy="79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gradFill rotWithShape="0">
            <a:gsLst>
              <a:gs pos="0">
                <a:srgbClr val="1b9ad9"/>
              </a:gs>
              <a:gs pos="100000">
                <a:srgbClr val="1d528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1b9ad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7640" y="-3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5943240" y="6508440"/>
            <a:ext cx="28954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d528d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3428640" y="6536880"/>
            <a:ext cx="2133720" cy="2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1d528d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9744-FAEA-458C-A90A-62A21BC1E745}" type="slidenum">
              <a:rPr b="1" lang="en-US" sz="1000" spc="-1" strike="noStrike">
                <a:solidFill>
                  <a:srgbClr val="1d528d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5638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6014880"/>
            <a:ext cx="130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Verdana"/>
              </a:rPr>
              <a:t>LOGO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1d528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1d528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5843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Рекомендации по разработке компетентностно – ориентированных заданий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" y="5181120"/>
            <a:ext cx="8686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Verdana"/>
              </a:rPr>
              <a:t>И. И. Миронова, методист ГМЦ</a:t>
            </a:r>
            <a:endParaRPr b="1" lang="en-US" sz="1800" spc="-1" strike="noStrike">
              <a:solidFill>
                <a:srgbClr val="1d528d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24360" y="5877000"/>
            <a:ext cx="137160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Чем отличаются КОЗ от традиционных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Они базируются на знаниях и умениях, но требуют умения применять накопленные знания в практической деятельности. Назначение компетентностно-ориентированных заданий – включить учащихся в решение «жизненной»  проблемной задач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8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 узнать КОЗ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Во-первых, это деятельностное задание; во-вторых, оно моделирует практическую, жизненную ситуацию; в-третьих, оно строится на актуальном для учащихся материале; в-четвёртых, его структура задаётся  особыми элементами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стимул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задачная формулировка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сточник информаци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бланк для выполнения задания (если оно подразумевает структурированный ответ)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d528d"/>
                </a:solidFill>
                <a:latin typeface="Verdana"/>
              </a:rPr>
              <a:t>инструмент проверки</a:t>
            </a:r>
            <a:endParaRPr b="1" lang="en-US" sz="3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3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иму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мотивирует ученика на выполнение задания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включает описание ситуации или другие условия задачи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которые играют роль источника информации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4000" y="249228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Функции: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тивирует учащегося на выполнение задания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моделирует практическую, жизненную ситуацию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при необходимости может нести функцию источника информации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43657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d528d"/>
                </a:solidFill>
                <a:latin typeface="Arial"/>
              </a:rPr>
              <a:t>Стимул должен: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быть кратким;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Е отвлекать учащегося от содержа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чная формулиров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Задачная формулировка понимается однозначно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четко соотносится с модельным ответом \ шкалой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соответствует возрасту учащегося, интересна учащемус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49228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Мы не можем проверять то, что не требовали в задачной формулировке. Мы обязаны проверять то, что предписывали в задачной формулировке.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точник информ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Источник информации  содержит информацию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необходимую для успешной деятельности учащегося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1d528d"/>
                </a:solidFill>
                <a:latin typeface="Arial"/>
              </a:rPr>
              <a:t>по выполнению задания</a:t>
            </a: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24922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Arial"/>
              </a:rPr>
              <a:t>Необходим и достаточен для выполнения заданной деятельности, интересен, соответствует возрасту учащихся</a:t>
            </a: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38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d528d"/>
                </a:solidFill>
                <a:latin typeface="Arial"/>
              </a:rPr>
              <a:t>На одном источнике (наборе источников) может строиться несколько заданий. Учащийся не должен быть знаком с источником до выполнения задания.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струмент прове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1125360"/>
            <a:ext cx="7993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определяет количество баллов за каждый этап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и общий итог в зависимости от сложности учебного материала,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дополнительных видов деятельности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2492280"/>
            <a:ext cx="85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528d"/>
                </a:solidFill>
                <a:latin typeface="Arial"/>
              </a:rPr>
              <a:t>Инструментом проверки может быть: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Ключ - используется для тестовых заданий закрытого типа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Модельный ответ – обычно используется для открытых тестовых заданий с кратки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Аналитическая шкала - используется для открытых тестовых заданий с развёрнутым ответ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528d"/>
                </a:solidFill>
                <a:latin typeface="Arial"/>
              </a:rPr>
              <a:t>· Бланк наблюдений за групповой работой – используется для оценки вклада каждого участника в групповой продукт и эффективности деятельности всей группы в целом.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836640"/>
          <a:ext cx="8229600" cy="5632200"/>
        </p:xfrm>
        <a:graphic>
          <a:graphicData uri="http://schemas.openxmlformats.org/drawingml/2006/table">
            <a:tbl>
              <a:tblPr/>
              <a:tblGrid>
                <a:gridCol w="3790800"/>
                <a:gridCol w="1359000"/>
                <a:gridCol w="1494000"/>
                <a:gridCol w="15858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в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с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н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b9ad9"/>
                    </a:solidFill>
                  </a:tcPr>
                </a:tc>
              </a:tr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правиль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частич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Задание выполнено неверно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с большим количеством ошибок)</a:t>
                      </a: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рогнозирование содержания текста по заголовк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оиск ключевых слов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сновная мысль текста по ключевым словам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бота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Перевод предложений с незнакомыми словами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Ответы на вопросы по тексту</a:t>
                      </a: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КОЗ по биологи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076400"/>
            <a:ext cx="843588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ы, ученик 6 класса, помогаете своему младшему брату (сестре, другу, подруге) готовиться к викторине по природоведению. На вопрос: «Какой орган у картофеля мы употребляем в пищу?», получили ответ: «Плод». Этот ответ вас смутил, ведь вы знаете, что на самом деле плоды картофеля ядовиты и можно употреблять в пищу только клубни - видоизмененные побеги. 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На рисунке представлен клубень картофеля № 1, который является видоизмененным побегом, и побег дерева с почками № 2.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Внимательно рассмотрите рисунки. Что объединяет и в чём отличие биологических объектов, изображённых на рисунке? Почему нельзя назвать клубень картофеля плодом?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d528d"/>
                </a:solidFill>
                <a:latin typeface="Verdana"/>
              </a:rPr>
              <a:t>Представление результатов. Заполните таблицу:</a:t>
            </a: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71640" y="2637000"/>
          <a:ext cx="1993680" cy="145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637000"/>
                    <a:ext cx="199368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971640" y="5373720"/>
          <a:ext cx="7777080" cy="669960"/>
        </p:xfrm>
        <a:graphic>
          <a:graphicData uri="http://schemas.openxmlformats.org/drawingml/2006/table">
            <a:tbl>
              <a:tblPr/>
              <a:tblGrid>
                <a:gridCol w="3889440"/>
                <a:gridCol w="3887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Сходства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1d528d"/>
                          </a:solidFill>
                          <a:latin typeface="Verdana"/>
                        </a:rPr>
                        <a:t>Различия объектов</a:t>
                      </a:r>
                      <a:endParaRPr b="0" lang="en-US" sz="16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1368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1368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55640" y="1700280"/>
            <a:ext cx="7416720" cy="1728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95b98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ланируемые результаты в рамках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компетентностного подхода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3933720"/>
            <a:ext cx="7416720" cy="179244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6ccff"/>
              </a:gs>
              <a:gs pos="100000">
                <a:srgbClr val="93daf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Фундаментальные цели образования,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соответствующие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Arial"/>
              </a:rPr>
              <a:t>пониманию ключевых компетенций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68360" y="1125360"/>
            <a:ext cx="8280360" cy="4319640"/>
          </a:xfrm>
          <a:prstGeom prst="downArrowCallout">
            <a:avLst>
              <a:gd name="adj1" fmla="val -14348"/>
              <a:gd name="adj2" fmla="val 19036"/>
              <a:gd name="adj3" fmla="val 17514"/>
              <a:gd name="adj4" fmla="val 79056"/>
            </a:avLst>
          </a:prstGeom>
          <a:gradFill rotWithShape="0">
            <a:gsLst>
              <a:gs pos="0">
                <a:srgbClr val="1b9ad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8000" y="333000"/>
            <a:ext cx="8928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В документах ЮНЕСКО цели сформулированы так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получать знания (учить учитьс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работать и зарабатывать (учение для труда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(учение для бытия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учить жить вместе (учение для совместной жизни)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8360" y="5516640"/>
            <a:ext cx="8136000" cy="865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b9ad9"/>
              </a:gs>
            </a:gsLst>
            <a:lin ang="5400000"/>
          </a:gra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558972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уют целям нашего школьного образования, сформулированным в ФГО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Компетентности в современном обществе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Дж. Равен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работать самостоятельно без постоянного руководств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брать на себя ответственность по собственной инициативе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проявлять инициативу, не спрашивая других, следует ли это делать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готовность замечать проблемы и искать пути их реше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анализировать новые ситуации и применять уже имеющиеся знания для такого анализа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уживаться с други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способность осваивать какие-либо знания по собственной инициативе (т.е. учитывая свой опыт и обратную связь с окружающими)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умение принимать решения на основе здравых суждений, т.е. не располагая всем необходимым материалом и не имея возможности обработать информацию математически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уровневая иерархия компетентностей (А. В. Хуторской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лючев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бщему (метапредметному) содержанию образования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обще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е относятся к определённому кругу учебных предметов и образовательных областей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предметные компетенции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 – частные по отношению к двум предыдущим компетенциям, имеющие конкретное описание и возможность формирования в рамках учебных предметов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06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103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омпетентностно – ориентированные задания являются способом оценки результатов в рамках компетентностного подхода.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00360" y="3213000"/>
            <a:ext cx="381636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стественнонаучная грамотность характеризуется тремя составляющими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знаниев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в который входят знания об окружающем мире и знания о естественных науках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компетентност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под которым понимают умения применять имеющиеся научные знания к жизненным ситуациям;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1d528d"/>
                </a:solidFill>
                <a:uFillTx/>
                <a:latin typeface="Verdana"/>
              </a:rPr>
              <a:t>аффективный компонент</a:t>
            </a:r>
            <a:r>
              <a:rPr b="1" lang="ru-RU" sz="2400" spc="-1" strike="noStrike">
                <a:solidFill>
                  <a:srgbClr val="1d528d"/>
                </a:solidFill>
                <a:latin typeface="Verdana"/>
              </a:rPr>
              <a:t>, который оценивает интерес и любознательность к естественным наукам.</a:t>
            </a:r>
            <a:endParaRPr b="1" lang="en-US" sz="24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я, которые проверяют в КОЗ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распознавать вопросы, идеи или проблемы, которые могут быть исследованы научными методам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выделять информацию (объекты, факты, экспериментальные данные и др.), необходимую для нахождения доказательств или подтверждения выводов при проведении научного исследования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лать вывод (заключение) или оценивать уже сделанный вывод с учётом предложенной ситуации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коммуникативные умения: аргументировано, чётко и ясно формулировать выводы, доказательства и др.;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d528d"/>
                </a:solidFill>
                <a:latin typeface="Verdana"/>
              </a:rPr>
              <a:t>демонстрировать знание и понимание естественнонаучных понятий.</a:t>
            </a:r>
            <a:endParaRPr b="1" lang="en-US" sz="20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1896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76400"/>
            <a:ext cx="8229600" cy="52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cc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d528d"/>
                </a:solidFill>
                <a:latin typeface="Verdana"/>
              </a:rPr>
              <a:t>Как составить компетентностно – ориентированные задания?</a:t>
            </a:r>
            <a:endParaRPr b="1" lang="en-US" sz="2800" spc="-1" strike="noStrike">
              <a:solidFill>
                <a:srgbClr val="1d528d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0"/>
            <a:ext cx="1942920" cy="189000"/>
          </a:xfrm>
          <a:prstGeom prst="rect">
            <a:avLst/>
          </a:prstGeom>
          <a:solidFill>
            <a:srgbClr val="1b9a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67640" y="6524640"/>
            <a:ext cx="1152360" cy="217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96108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4T08:04:37Z</dcterms:created>
  <dc:creator>user</dc:creator>
  <dc:description/>
  <dc:language>en-US</dc:language>
  <cp:lastModifiedBy>user</cp:lastModifiedBy>
  <dcterms:modified xsi:type="dcterms:W3CDTF">2012-12-04T13:10:58Z</dcterms:modified>
  <cp:revision>13</cp:revision>
  <dc:subject/>
  <dc:title>PowerPoint Template</dc:title>
</cp:coreProperties>
</file>